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B3DB-0006-4D5B-B335-CE67AE4AF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ioap.wikispaces.com/Ch+17+Collaboration+201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users.rcn.com/jkimball.ma.ultranet/BiologyPages/T/Translation.html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sylation:  addition of a carbohydr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wiley.com/college/boyer/0470003790/structure/tRNA/trna_intro.ht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logie.uni-hamburg.de/b-online/library/onlinebio/BioBookCELL2.html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2D5-18FC-441E-802F-A1DBFA4D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7A5-AA81-4821-A8BA-DA615484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A94-94B3-436F-B9DF-4C5D31C2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FD5-A71E-400A-909C-A1372562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629-8281-430F-9D7B-06C7B7BD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5F1-E135-4A08-B6D3-513AB78B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EA1-3937-4A6E-A7A8-F9A269D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D56-22C6-43ED-A15E-3A14555D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132-6F1C-4E5E-BB7D-E26D3F44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A63E-EDFB-4960-8CB8-976F0BD0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FCE-2F0A-4BA6-87D1-C8E44E97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FA8-CA83-46B5-85D2-BB5243CF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1874-E053-4796-8086-2C2EA4330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cs.whfreeman.com/thelifewire/content/chp12/1202003.html" TargetMode="External"/><Relationship Id="rId2" Type="http://schemas.openxmlformats.org/officeDocument/2006/relationships/hyperlink" Target="http://highered.mcgraw-hill.com/sites/0072943696/student_view0/chapter3/animation__how_translation_works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Gen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bosome recognizes the 5’ cap of the mRNA and the mRNA moves through the ribosome from the 5’ to the 3’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 (methionine)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the first cod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e corr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0920" y="3362400"/>
            <a:ext cx="2689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2367000"/>
            <a:ext cx="77724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itiator tRNA (with methionine) enter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carrying the second amino acid enter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 bond forms between the methionine and the second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bosome shifts one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ionine tRNA is re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tRNA moves into the P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ird tRNA enters the A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 bond is formed between the second and third 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 continues on in this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06800" y="1981080"/>
            <a:ext cx="292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codons: UGA, UAG and U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ein binds to A site, polypeptide is released from P site, and the 2 subunits of the ribosome sepa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33720" y="4419720"/>
            <a:ext cx="48765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karyotes vs. Prokary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mplex formed when multiple ribosomes attach to the same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karyotic cells, translation and transcription can happen at the sam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translational Mod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lypeptides are folded into their final protein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odification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s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or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ed animation with qui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bcs.whfreeman.com/thelifewire/content/chp12/1202003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ed animation (McGraw-Hill) with qui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highered.mcgraw-hill.com/sites/0072943696/student_view0/chapter3/animation__how_translation_work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where the information coded in mRNA is translated to a polypeptid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RNA (tRN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randed nucleic acid with a cloverleaf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co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equence of 3 bases) on the anticodon arm, complementary to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81440" y="1981080"/>
            <a:ext cx="338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acyl-tRNA synthetase enzymes add the correct amino acids to the the 3’ end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inoacy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inoacyl-t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NA with corresponding amino acid att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NAs deliver the correct amino acid to the growing polypeptide chain by complementary pairing betwee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cod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bble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 can recognize more than one codon by flexible pairing between the first (5’) base of the anticodon and third (3’) base of the co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two subunits, large and small, composed of rRNA and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units clamp the mRNA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3016080"/>
            <a:ext cx="3809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bosome Binding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minoacyl site): where incoming aminoacyl tRNA bi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eptidyl site): where tRNA carries that growing polypept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xit site): where tRNA leaves the 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n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0:14:18Z</dcterms:created>
  <dc:creator>user</dc:creator>
  <dc:description/>
  <dc:language>en-US</dc:language>
  <cp:lastModifiedBy>rubina khan</cp:lastModifiedBy>
  <dcterms:modified xsi:type="dcterms:W3CDTF">2012-04-24T17:15:08Z</dcterms:modified>
  <cp:revision>101</cp:revision>
  <dc:subject/>
  <dc:title>PowerPoint Presentation</dc:title>
</cp:coreProperties>
</file>